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ct" ContentType="image/x-pict"/>
  <Override PartName="/ppt/media/image22.png" ContentType="image/png"/>
  <Override PartName="/ppt/media/image9.pct" ContentType="image/x-pict"/>
  <Override PartName="/ppt/media/image8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7.pct" ContentType="image/x-pict"/>
  <Override PartName="/ppt/media/image5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4.png" ContentType="image/png"/>
  <Override PartName="/ppt/media/image15.pct" ContentType="image/x-pict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4.png" ContentType="image/png"/>
  <Override PartName="/ppt/media/image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FEEB-777B-4A41-822C-418C0E4A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AF8-B85D-409C-A1DC-5E1F80F9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8350-2FA1-4986-A65F-AF807893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60D8-C816-467C-A162-8EB154EC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9B45-6896-4922-80CD-CBFD477C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31D5-E991-44F7-B477-E0ECA43B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4C82-040C-44B1-A4BE-DE10F4D7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06FC-BF9A-4A3D-A518-24E9D208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5313-D12C-4735-A28F-2AA1BD781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A8B9-6E75-4F57-A2D5-AF949ABD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5AE-96C2-4450-B31D-DDA03852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4F3-222E-41DD-AE07-B84C357EE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0820-B953-459B-BB7D-021850597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6A3-0E56-496C-908F-945EBA2D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FF6-B1F6-4204-94B2-FA1F583C0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D8C-8B3A-47F7-836F-C7CB4F31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EC9B-C9C1-4A0B-8898-9364ACC4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CD5-ADBB-4979-9822-60714748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58A-F1AD-4FCB-8D94-501F2314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662-29C4-4BEA-9348-547A2955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108-6782-458D-B64B-FCB00B20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633-8B9F-4AE2-8CC2-0B577153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C51-A6F0-4ACA-9F22-193F8C4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835-0566-40A9-A809-25C4EB1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82B-4741-478E-B40E-25AD2B0B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0F9-E306-4DD2-872A-7AADB3C1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676-9016-4FCB-BAED-C7582BE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257-F8CD-4742-975B-BDA61B2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0E0-5FF6-41E9-AA37-D6FC7B0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17B6-254F-464E-B918-165C017E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ct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pct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pct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pct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0.pct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1.pct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9.pct"/><Relationship Id="rId19" Type="http://schemas.openxmlformats.org/officeDocument/2006/relationships/image" Target="../media/image1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pct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Rectangle 14"/>
          <p:cNvSpPr/>
          <p:nvPr/>
        </p:nvSpPr>
        <p:spPr>
          <a:xfrm>
            <a:off x="309600" y="2548080"/>
            <a:ext cx="37418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DAVID PARRI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339840" y="5719680"/>
            <a:ext cx="3422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Narrow"/>
              </a:rPr>
              <a:t>WP-3D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pril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914400" y="1919160"/>
            <a:ext cx="7305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rographic ventilation and recirculation of pollution in the atmospheric boundary laye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ter-regional transpor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fshore recirculation and marine boundary layer phenomen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onger-range transpor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50760" y="105264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ort of emissions into, within, and out of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3" descr=""/>
          <p:cNvPicPr/>
          <p:nvPr/>
        </p:nvPicPr>
        <p:blipFill>
          <a:blip r:embed="rId3"/>
          <a:srcRect l="868" t="2028" r="6941" b="607"/>
          <a:stretch/>
        </p:blipFill>
        <p:spPr>
          <a:xfrm>
            <a:off x="46080" y="1754280"/>
            <a:ext cx="452592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6" name="Rectangle 39"/>
          <p:cNvSpPr/>
          <p:nvPr/>
        </p:nvSpPr>
        <p:spPr>
          <a:xfrm>
            <a:off x="123480" y="6265800"/>
            <a:ext cx="4382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ley et al., JGR, 113, 10.1029/2007JG000625,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2341800" y="1763640"/>
            <a:ext cx="1985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ymbo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ymbol"/>
              </a:rPr>
              <a:t>C in annual grass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3"/>
          <p:cNvGrpSpPr/>
          <p:nvPr/>
        </p:nvGrpSpPr>
        <p:grpSpPr>
          <a:xfrm>
            <a:off x="4725360" y="1504800"/>
            <a:ext cx="4228200" cy="4348440"/>
            <a:chOff x="4725360" y="1504800"/>
            <a:chExt cx="4228200" cy="4348440"/>
          </a:xfrm>
        </p:grpSpPr>
        <p:pic>
          <p:nvPicPr>
            <p:cNvPr id="299" name="Picture 16" descr="Layout0.png"/>
            <p:cNvPicPr/>
            <p:nvPr/>
          </p:nvPicPr>
          <p:blipFill>
            <a:blip r:embed="rId4"/>
            <a:srcRect l="10992" t="2666" r="6107" b="10666"/>
            <a:stretch/>
          </p:blipFill>
          <p:spPr>
            <a:xfrm>
              <a:off x="4725360" y="1803960"/>
              <a:ext cx="422820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39"/>
            <p:cNvSpPr/>
            <p:nvPr/>
          </p:nvSpPr>
          <p:spPr>
            <a:xfrm>
              <a:off x="4730760" y="1504800"/>
              <a:ext cx="4187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r average of maximum daily max 8-hr av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9"/>
            <p:cNvSpPr/>
            <p:nvPr/>
          </p:nvSpPr>
          <p:spPr>
            <a:xfrm>
              <a:off x="7776360" y="1841040"/>
              <a:ext cx="11498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5-200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Rectangle 16"/>
          <p:cNvSpPr/>
          <p:nvPr/>
        </p:nvSpPr>
        <p:spPr>
          <a:xfrm>
            <a:off x="2286000" y="5807160"/>
            <a:ext cx="62578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Investigate transport mechanisms so that we can understand differences in observed patterns of anthropogenic emissions and ozon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8" descr="Layout0.png"/>
          <p:cNvPicPr/>
          <p:nvPr/>
        </p:nvPicPr>
        <p:blipFill>
          <a:blip r:embed="rId1"/>
          <a:srcRect l="0" t="1508" r="7293" b="1508"/>
          <a:stretch/>
        </p:blipFill>
        <p:spPr>
          <a:xfrm>
            <a:off x="4151160" y="1133640"/>
            <a:ext cx="4940280" cy="49989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0" y="745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port of O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nto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25360" y="614520"/>
            <a:ext cx="381816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 has a spring maximum and a summer minimum at the surfac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But a broad spring-summer maximum at 2 km altitu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72ec1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c72ec1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c72ec1"/>
                </a:solidFill>
                <a:latin typeface="Arial"/>
              </a:rPr>
              <a:t> at 2 km altitude can violate 75 ppbv 8-hr average O</a:t>
            </a:r>
            <a:r>
              <a:rPr b="1" lang="en-US" sz="2000" spc="-1" strike="noStrike" baseline="-25000">
                <a:solidFill>
                  <a:srgbClr val="c72ec1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c72ec1"/>
                </a:solidFill>
                <a:latin typeface="Arial"/>
              </a:rPr>
              <a:t> NAAQ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139680" y="4535640"/>
            <a:ext cx="4172040" cy="19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High marine O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from aloft makes substantial (maybe dominant, maybe total) contribution  to inland rural exceedan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225360" y="3359160"/>
            <a:ext cx="383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Correlations indicate that air enters Central Valley  from 1 to 2.5 km altitu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9360" y="9360"/>
            <a:ext cx="9144000" cy="1013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9"/>
          <p:cNvSpPr/>
          <p:nvPr/>
        </p:nvSpPr>
        <p:spPr>
          <a:xfrm>
            <a:off x="50760" y="1052640"/>
            <a:ext cx="89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ort of 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out of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2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port and Meteorolo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3"/>
          <p:cNvSpPr/>
          <p:nvPr/>
        </p:nvSpPr>
        <p:spPr>
          <a:xfrm>
            <a:off x="1130040" y="501480"/>
            <a:ext cx="7598160" cy="440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derstanding is critical for characterizing 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PM levels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5418000" y="4349880"/>
            <a:ext cx="3519720" cy="161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Investigate mechanisms and effects of pollution transport on spatial scales from inter-air basin to inter-continent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Slide2"/>
          <p:cNvPicPr/>
          <p:nvPr/>
        </p:nvPicPr>
        <p:blipFill>
          <a:blip r:embed="rId3"/>
          <a:srcRect l="4001" t="14669" r="36006" b="13335"/>
          <a:stretch/>
        </p:blipFill>
        <p:spPr>
          <a:xfrm>
            <a:off x="127080" y="1930320"/>
            <a:ext cx="4921200" cy="437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9"/>
          <p:cNvSpPr/>
          <p:nvPr/>
        </p:nvSpPr>
        <p:spPr>
          <a:xfrm>
            <a:off x="211320" y="1549440"/>
            <a:ext cx="422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yr average of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ghest daily max 8-hr av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9"/>
          <p:cNvSpPr/>
          <p:nvPr/>
        </p:nvSpPr>
        <p:spPr>
          <a:xfrm>
            <a:off x="223200" y="6405480"/>
            <a:ext cx="2271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 Moore, WRAP, 2008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2522160" y="1895400"/>
            <a:ext cx="1149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-20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5137200" y="2125800"/>
            <a:ext cx="38354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7ea"/>
                </a:solidFill>
                <a:latin typeface="Arial"/>
              </a:rPr>
              <a:t>Patterns of rural O</a:t>
            </a:r>
            <a:r>
              <a:rPr b="0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67ea"/>
                </a:solidFill>
                <a:latin typeface="Arial"/>
              </a:rPr>
              <a:t> observed in downwind states, suggest that transport of Southern California emissions has long-range eff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8" descr="Layout0.png"/>
          <p:cNvPicPr/>
          <p:nvPr/>
        </p:nvPicPr>
        <p:blipFill>
          <a:blip r:embed="rId1"/>
          <a:srcRect l="0" t="1508" r="7293" b="1508"/>
          <a:stretch/>
        </p:blipFill>
        <p:spPr>
          <a:xfrm>
            <a:off x="4151160" y="1133640"/>
            <a:ext cx="4940280" cy="49989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0" y="745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port of pollution downwind from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109440" y="660240"/>
            <a:ext cx="4462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 is transported further downwind.  How does it evolve and mix to the surfac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4"/>
          <p:cNvSpPr/>
          <p:nvPr/>
        </p:nvSpPr>
        <p:spPr>
          <a:xfrm>
            <a:off x="0" y="74520"/>
            <a:ext cx="91440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ransport of pollution downwind from Californ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09440" y="660240"/>
            <a:ext cx="4462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Marine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 is transported further downwind.  How does it evolve and mix to the surfac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109440" y="1687680"/>
            <a:ext cx="4953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California O</a:t>
            </a:r>
            <a:r>
              <a:rPr b="1" lang="en-US" sz="2000" spc="-1" strike="noStrike" baseline="-25000">
                <a:solidFill>
                  <a:srgbClr val="0067ea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67ea"/>
                </a:solidFill>
                <a:latin typeface="Arial"/>
              </a:rPr>
              <a:t>, PM and precursors are added to marine inflow.  How does this pollution escape from California and mix to the surface downwind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 1" descr="pumping"/>
          <p:cNvPicPr/>
          <p:nvPr/>
        </p:nvPicPr>
        <p:blipFill>
          <a:blip r:embed="rId1"/>
          <a:srcRect l="0" t="0" r="9752" b="16000"/>
          <a:stretch/>
        </p:blipFill>
        <p:spPr>
          <a:xfrm>
            <a:off x="5059440" y="768240"/>
            <a:ext cx="3903480" cy="25434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7"/>
          <p:cNvSpPr/>
          <p:nvPr/>
        </p:nvSpPr>
        <p:spPr>
          <a:xfrm>
            <a:off x="119160" y="3429000"/>
            <a:ext cx="749124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4 Questions for CalNex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port out of California slow, relatively constant leakage, or intermittent, rapid surges?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the Sierras and other mountain ranges represent transport barriers, or a transport mechanism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California emissions leak around the mountains through lower elevations?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lifornia emissions be directly observed at surface sites in or aloft over downwind state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WUS"/>
          <p:cNvPicPr/>
          <p:nvPr/>
        </p:nvPicPr>
        <p:blipFill>
          <a:blip r:embed="rId1"/>
          <a:stretch/>
        </p:blipFill>
        <p:spPr>
          <a:xfrm>
            <a:off x="1752480" y="1503360"/>
            <a:ext cx="7086600" cy="52293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5043600" y="2022480"/>
            <a:ext cx="2620800" cy="875880"/>
          </a:xfrm>
          <a:prstGeom prst="rect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le CalNex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nde net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2209680" y="39416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8"/>
          <p:cNvSpPr/>
          <p:nvPr/>
        </p:nvSpPr>
        <p:spPr>
          <a:xfrm>
            <a:off x="2514600" y="478008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7696080" y="42465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2895480" y="40179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3200400" y="5618160"/>
            <a:ext cx="15228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12"/>
          <p:cNvSpPr/>
          <p:nvPr/>
        </p:nvSpPr>
        <p:spPr>
          <a:xfrm>
            <a:off x="7924680" y="424656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3"/>
          <p:cNvSpPr/>
          <p:nvPr/>
        </p:nvSpPr>
        <p:spPr>
          <a:xfrm>
            <a:off x="3581280" y="62276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3200400" y="485604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4343400" y="5770440"/>
            <a:ext cx="15228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924680" y="14270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7"/>
          <p:cNvSpPr/>
          <p:nvPr/>
        </p:nvSpPr>
        <p:spPr>
          <a:xfrm>
            <a:off x="3124080" y="1427040"/>
            <a:ext cx="15264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4364640" y="1079640"/>
            <a:ext cx="237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vironment Canada permanen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zonesonde si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9"/>
          <p:cNvSpPr/>
          <p:nvPr/>
        </p:nvSpPr>
        <p:spPr>
          <a:xfrm flipH="1">
            <a:off x="3429000" y="1274760"/>
            <a:ext cx="914400" cy="152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1"/>
          <p:cNvSpPr/>
          <p:nvPr/>
        </p:nvSpPr>
        <p:spPr>
          <a:xfrm flipV="1">
            <a:off x="1219320" y="4094280"/>
            <a:ext cx="91440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2"/>
          <p:cNvSpPr/>
          <p:nvPr/>
        </p:nvSpPr>
        <p:spPr>
          <a:xfrm flipV="1">
            <a:off x="1295280" y="4855680"/>
            <a:ext cx="1143000" cy="381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1295280" y="5389560"/>
            <a:ext cx="221004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6781680" y="1351080"/>
            <a:ext cx="990720" cy="152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2797200" y="115236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low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7595640" y="104616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att's Lak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7100280" y="43527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nb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8054640" y="43527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ul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9"/>
          <p:cNvSpPr/>
          <p:nvPr/>
        </p:nvSpPr>
        <p:spPr>
          <a:xfrm>
            <a:off x="228600" y="4734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ghest priority for upwind si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0"/>
          <p:cNvSpPr/>
          <p:nvPr/>
        </p:nvSpPr>
        <p:spPr>
          <a:xfrm>
            <a:off x="457200" y="599904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rate priority for upwind si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1523880" y="5770440"/>
            <a:ext cx="160020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3"/>
          <p:cNvSpPr/>
          <p:nvPr/>
        </p:nvSpPr>
        <p:spPr>
          <a:xfrm>
            <a:off x="2057400" y="4398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 Rey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1828800" y="34844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inidad Hea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5"/>
          <p:cNvSpPr/>
          <p:nvPr/>
        </p:nvSpPr>
        <p:spPr>
          <a:xfrm>
            <a:off x="2622240" y="3789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dd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3069360" y="630396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 Nicolas 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3070080" y="493236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akda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4069800" y="549576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rst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2378880" y="54658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ro B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20720" y="74520"/>
            <a:ext cx="76010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 Network of O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sondes combined with aircraft could greatly help to answer these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2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138240" y="1922400"/>
            <a:ext cx="39718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Goal of this mee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Update WP-3D deployment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39840" y="5719680"/>
            <a:ext cx="3422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Narrow"/>
              </a:rPr>
              <a:t>WP-3D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pril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31920" y="1962000"/>
            <a:ext cx="38606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7ea"/>
                </a:solidFill>
                <a:latin typeface="Arial Narrow"/>
              </a:rPr>
              <a:t>toda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ief Introduction to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CalNex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y California is particularly interesting scientifically from a WP-3D perspec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339840" y="5719680"/>
            <a:ext cx="342252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Narrow"/>
              </a:rPr>
              <a:t>WP-3D planning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pril 2009, Boulder, C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116000" y="968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7ea"/>
                </a:solidFill>
                <a:latin typeface="Arial"/>
              </a:rPr>
              <a:t>NOAA’s Asse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3"/>
          <a:srcRect l="0" t="24504" r="0" b="12252"/>
          <a:stretch/>
        </p:blipFill>
        <p:spPr>
          <a:xfrm>
            <a:off x="4294080" y="1336680"/>
            <a:ext cx="4694400" cy="198108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62" name="Text Box 7"/>
          <p:cNvSpPr/>
          <p:nvPr/>
        </p:nvSpPr>
        <p:spPr>
          <a:xfrm>
            <a:off x="6908760" y="1407960"/>
            <a:ext cx="190188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WP-3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P7250015"/>
          <p:cNvPicPr/>
          <p:nvPr/>
        </p:nvPicPr>
        <p:blipFill>
          <a:blip r:embed="rId4"/>
          <a:srcRect l="0" t="12000" r="0" b="24000"/>
          <a:stretch/>
        </p:blipFill>
        <p:spPr>
          <a:xfrm>
            <a:off x="114480" y="2647800"/>
            <a:ext cx="4555800" cy="21877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4840" y="4524480"/>
            <a:ext cx="359388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R/V Ronald H. Brow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4"/>
          <p:cNvSpPr/>
          <p:nvPr/>
        </p:nvSpPr>
        <p:spPr>
          <a:xfrm>
            <a:off x="8439120" y="5097600"/>
            <a:ext cx="4680" cy="220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5"/>
          <p:cNvSpPr/>
          <p:nvPr/>
        </p:nvSpPr>
        <p:spPr>
          <a:xfrm>
            <a:off x="8404200" y="5079960"/>
            <a:ext cx="4680" cy="219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8480520" y="5338800"/>
            <a:ext cx="61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7"/>
          <p:cNvSpPr/>
          <p:nvPr/>
        </p:nvSpPr>
        <p:spPr>
          <a:xfrm>
            <a:off x="8529480" y="5337000"/>
            <a:ext cx="648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43"/>
          <p:cNvGrpSpPr/>
          <p:nvPr/>
        </p:nvGrpSpPr>
        <p:grpSpPr>
          <a:xfrm>
            <a:off x="4734000" y="4379760"/>
            <a:ext cx="4290480" cy="2322360"/>
            <a:chOff x="4734000" y="4379760"/>
            <a:chExt cx="4290480" cy="2322360"/>
          </a:xfrm>
        </p:grpSpPr>
        <p:sp>
          <p:nvSpPr>
            <p:cNvPr id="70" name="Rectangle 38"/>
            <p:cNvSpPr/>
            <p:nvPr/>
          </p:nvSpPr>
          <p:spPr>
            <a:xfrm>
              <a:off x="4734000" y="4379760"/>
              <a:ext cx="4290480" cy="232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70"/>
            <p:cNvSpPr/>
            <p:nvPr/>
          </p:nvSpPr>
          <p:spPr>
            <a:xfrm>
              <a:off x="8258760" y="6218640"/>
              <a:ext cx="83520" cy="400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71"/>
            <p:cNvSpPr/>
            <p:nvPr/>
          </p:nvSpPr>
          <p:spPr>
            <a:xfrm>
              <a:off x="8244000" y="6216840"/>
              <a:ext cx="27720" cy="40212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72"/>
            <p:cNvSpPr/>
            <p:nvPr/>
          </p:nvSpPr>
          <p:spPr>
            <a:xfrm>
              <a:off x="8247960" y="6188400"/>
              <a:ext cx="22320" cy="385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3"/>
            <p:cNvSpPr/>
            <p:nvPr/>
          </p:nvSpPr>
          <p:spPr>
            <a:xfrm>
              <a:off x="8270280" y="6188400"/>
              <a:ext cx="72360" cy="60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74"/>
            <p:cNvSpPr/>
            <p:nvPr/>
          </p:nvSpPr>
          <p:spPr>
            <a:xfrm>
              <a:off x="8104680" y="6056280"/>
              <a:ext cx="7560" cy="40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75"/>
            <p:cNvSpPr/>
            <p:nvPr/>
          </p:nvSpPr>
          <p:spPr>
            <a:xfrm>
              <a:off x="8085960" y="6090840"/>
              <a:ext cx="40680" cy="24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76"/>
            <p:cNvSpPr/>
            <p:nvPr/>
          </p:nvSpPr>
          <p:spPr>
            <a:xfrm>
              <a:off x="8125200" y="6090840"/>
              <a:ext cx="16200" cy="140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77"/>
            <p:cNvSpPr/>
            <p:nvPr/>
          </p:nvSpPr>
          <p:spPr>
            <a:xfrm>
              <a:off x="8182800" y="6106680"/>
              <a:ext cx="38880" cy="4284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78"/>
            <p:cNvSpPr/>
            <p:nvPr/>
          </p:nvSpPr>
          <p:spPr>
            <a:xfrm>
              <a:off x="8162280" y="6094800"/>
              <a:ext cx="90720" cy="5220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79"/>
            <p:cNvSpPr/>
            <p:nvPr/>
          </p:nvSpPr>
          <p:spPr>
            <a:xfrm>
              <a:off x="8004240" y="6094800"/>
              <a:ext cx="172440" cy="522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0"/>
            <p:cNvSpPr/>
            <p:nvPr/>
          </p:nvSpPr>
          <p:spPr>
            <a:xfrm>
              <a:off x="7863120" y="646056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1"/>
            <p:cNvSpPr/>
            <p:nvPr/>
          </p:nvSpPr>
          <p:spPr>
            <a:xfrm>
              <a:off x="7863120" y="6472800"/>
              <a:ext cx="441720" cy="2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2"/>
            <p:cNvSpPr/>
            <p:nvPr/>
          </p:nvSpPr>
          <p:spPr>
            <a:xfrm>
              <a:off x="7863120" y="649512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3"/>
            <p:cNvSpPr/>
            <p:nvPr/>
          </p:nvSpPr>
          <p:spPr>
            <a:xfrm>
              <a:off x="7863120" y="6485040"/>
              <a:ext cx="441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86"/>
            <p:cNvSpPr/>
            <p:nvPr/>
          </p:nvSpPr>
          <p:spPr>
            <a:xfrm>
              <a:off x="8225640" y="6137640"/>
              <a:ext cx="6840" cy="282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87"/>
            <p:cNvSpPr/>
            <p:nvPr/>
          </p:nvSpPr>
          <p:spPr>
            <a:xfrm>
              <a:off x="8212680" y="6131160"/>
              <a:ext cx="9000" cy="28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88"/>
            <p:cNvSpPr/>
            <p:nvPr/>
          </p:nvSpPr>
          <p:spPr>
            <a:xfrm>
              <a:off x="8186400" y="6116760"/>
              <a:ext cx="7560" cy="282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89"/>
            <p:cNvSpPr/>
            <p:nvPr/>
          </p:nvSpPr>
          <p:spPr>
            <a:xfrm>
              <a:off x="8017560" y="6094800"/>
              <a:ext cx="159480" cy="363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90"/>
            <p:cNvSpPr/>
            <p:nvPr/>
          </p:nvSpPr>
          <p:spPr>
            <a:xfrm>
              <a:off x="8002800" y="6387480"/>
              <a:ext cx="174240" cy="345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91"/>
            <p:cNvSpPr/>
            <p:nvPr/>
          </p:nvSpPr>
          <p:spPr>
            <a:xfrm>
              <a:off x="8129160" y="6116760"/>
              <a:ext cx="20160" cy="3049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92"/>
            <p:cNvSpPr/>
            <p:nvPr/>
          </p:nvSpPr>
          <p:spPr>
            <a:xfrm>
              <a:off x="8104680" y="6119280"/>
              <a:ext cx="20520" cy="3027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93"/>
            <p:cNvSpPr/>
            <p:nvPr/>
          </p:nvSpPr>
          <p:spPr>
            <a:xfrm>
              <a:off x="8075160" y="6121080"/>
              <a:ext cx="23760" cy="30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94"/>
            <p:cNvSpPr/>
            <p:nvPr/>
          </p:nvSpPr>
          <p:spPr>
            <a:xfrm>
              <a:off x="8048880" y="6125400"/>
              <a:ext cx="22320" cy="2966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95"/>
            <p:cNvSpPr/>
            <p:nvPr/>
          </p:nvSpPr>
          <p:spPr>
            <a:xfrm>
              <a:off x="8022960" y="6127560"/>
              <a:ext cx="23760" cy="2941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96"/>
            <p:cNvSpPr/>
            <p:nvPr/>
          </p:nvSpPr>
          <p:spPr>
            <a:xfrm>
              <a:off x="8281080" y="6446520"/>
              <a:ext cx="37080" cy="172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8301960" y="6456600"/>
              <a:ext cx="6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99"/>
            <p:cNvSpPr/>
            <p:nvPr/>
          </p:nvSpPr>
          <p:spPr>
            <a:xfrm>
              <a:off x="8255160" y="6466680"/>
              <a:ext cx="85320" cy="180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0"/>
            <p:cNvSpPr/>
            <p:nvPr/>
          </p:nvSpPr>
          <p:spPr>
            <a:xfrm>
              <a:off x="8257320" y="6478560"/>
              <a:ext cx="85320" cy="216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1"/>
            <p:cNvSpPr/>
            <p:nvPr/>
          </p:nvSpPr>
          <p:spPr>
            <a:xfrm>
              <a:off x="8255160" y="6491160"/>
              <a:ext cx="87480" cy="180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2"/>
            <p:cNvSpPr/>
            <p:nvPr/>
          </p:nvSpPr>
          <p:spPr>
            <a:xfrm>
              <a:off x="8257320" y="6503040"/>
              <a:ext cx="85320" cy="2160"/>
            </a:xfrm>
            <a:prstGeom prst="line">
              <a:avLst/>
            </a:prstGeom>
            <a:ln w="1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3"/>
            <p:cNvSpPr/>
            <p:nvPr/>
          </p:nvSpPr>
          <p:spPr>
            <a:xfrm>
              <a:off x="8513280" y="6381360"/>
              <a:ext cx="44640" cy="23760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8440920" y="6361200"/>
              <a:ext cx="90720" cy="25560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8528760" y="6359040"/>
              <a:ext cx="29160" cy="42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06"/>
            <p:cNvSpPr/>
            <p:nvPr/>
          </p:nvSpPr>
          <p:spPr>
            <a:xfrm>
              <a:off x="8448480" y="6391440"/>
              <a:ext cx="10800" cy="10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07"/>
            <p:cNvSpPr/>
            <p:nvPr/>
          </p:nvSpPr>
          <p:spPr>
            <a:xfrm>
              <a:off x="8506440" y="6393600"/>
              <a:ext cx="9000" cy="10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8"/>
            <p:cNvSpPr/>
            <p:nvPr/>
          </p:nvSpPr>
          <p:spPr>
            <a:xfrm>
              <a:off x="8363160" y="6409440"/>
              <a:ext cx="241200" cy="216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09"/>
            <p:cNvSpPr/>
            <p:nvPr/>
          </p:nvSpPr>
          <p:spPr>
            <a:xfrm>
              <a:off x="8370720" y="6432120"/>
              <a:ext cx="2264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10"/>
            <p:cNvSpPr/>
            <p:nvPr/>
          </p:nvSpPr>
          <p:spPr>
            <a:xfrm>
              <a:off x="8368560" y="6456600"/>
              <a:ext cx="22860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11"/>
            <p:cNvSpPr/>
            <p:nvPr/>
          </p:nvSpPr>
          <p:spPr>
            <a:xfrm>
              <a:off x="8372160" y="6476760"/>
              <a:ext cx="2228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8883360" y="6324480"/>
              <a:ext cx="31320" cy="324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13"/>
            <p:cNvSpPr/>
            <p:nvPr/>
          </p:nvSpPr>
          <p:spPr>
            <a:xfrm>
              <a:off x="8872200" y="6324480"/>
              <a:ext cx="16560" cy="3456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14"/>
            <p:cNvSpPr/>
            <p:nvPr/>
          </p:nvSpPr>
          <p:spPr>
            <a:xfrm>
              <a:off x="8840520" y="6346800"/>
              <a:ext cx="57600" cy="270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896320" y="6346800"/>
              <a:ext cx="38520" cy="2700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16"/>
            <p:cNvSpPr/>
            <p:nvPr/>
          </p:nvSpPr>
          <p:spPr>
            <a:xfrm>
              <a:off x="8849880" y="6363000"/>
              <a:ext cx="936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17"/>
            <p:cNvSpPr/>
            <p:nvPr/>
          </p:nvSpPr>
          <p:spPr>
            <a:xfrm>
              <a:off x="8862840" y="6363000"/>
              <a:ext cx="900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18"/>
            <p:cNvSpPr/>
            <p:nvPr/>
          </p:nvSpPr>
          <p:spPr>
            <a:xfrm>
              <a:off x="8877960" y="6363000"/>
              <a:ext cx="9000" cy="13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>
              <a:off x="8790120" y="6385680"/>
              <a:ext cx="15228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20"/>
            <p:cNvSpPr/>
            <p:nvPr/>
          </p:nvSpPr>
          <p:spPr>
            <a:xfrm>
              <a:off x="8792280" y="6409440"/>
              <a:ext cx="151920" cy="216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1"/>
            <p:cNvSpPr/>
            <p:nvPr/>
          </p:nvSpPr>
          <p:spPr>
            <a:xfrm>
              <a:off x="8790120" y="6440400"/>
              <a:ext cx="1562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798040" y="6464880"/>
              <a:ext cx="13932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8760960" y="6417720"/>
              <a:ext cx="53640" cy="2012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812800" y="6417720"/>
              <a:ext cx="37080" cy="1990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8729280" y="6168240"/>
              <a:ext cx="35280" cy="4510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8588160" y="6168240"/>
              <a:ext cx="146520" cy="451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27"/>
            <p:cNvSpPr/>
            <p:nvPr/>
          </p:nvSpPr>
          <p:spPr>
            <a:xfrm>
              <a:off x="8703000" y="6170040"/>
              <a:ext cx="9000" cy="4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8675280" y="6172200"/>
              <a:ext cx="900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8651160" y="6175800"/>
              <a:ext cx="9000" cy="44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30"/>
            <p:cNvSpPr/>
            <p:nvPr/>
          </p:nvSpPr>
          <p:spPr>
            <a:xfrm>
              <a:off x="8623080" y="6178320"/>
              <a:ext cx="11160" cy="43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31"/>
            <p:cNvSpPr/>
            <p:nvPr/>
          </p:nvSpPr>
          <p:spPr>
            <a:xfrm>
              <a:off x="8598960" y="6180120"/>
              <a:ext cx="9000" cy="43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32"/>
            <p:cNvSpPr/>
            <p:nvPr/>
          </p:nvSpPr>
          <p:spPr>
            <a:xfrm>
              <a:off x="8322120" y="6432120"/>
              <a:ext cx="72360" cy="18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33"/>
            <p:cNvSpPr/>
            <p:nvPr/>
          </p:nvSpPr>
          <p:spPr>
            <a:xfrm>
              <a:off x="8361360" y="6454440"/>
              <a:ext cx="684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8374320" y="6454440"/>
              <a:ext cx="684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35"/>
            <p:cNvSpPr/>
            <p:nvPr/>
          </p:nvSpPr>
          <p:spPr>
            <a:xfrm>
              <a:off x="8390880" y="6432120"/>
              <a:ext cx="50040" cy="1846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36"/>
            <p:cNvSpPr/>
            <p:nvPr/>
          </p:nvSpPr>
          <p:spPr>
            <a:xfrm>
              <a:off x="8331480" y="6454440"/>
              <a:ext cx="9000" cy="6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38"/>
            <p:cNvSpPr/>
            <p:nvPr/>
          </p:nvSpPr>
          <p:spPr>
            <a:xfrm>
              <a:off x="8258760" y="6464880"/>
              <a:ext cx="19116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39"/>
            <p:cNvSpPr/>
            <p:nvPr/>
          </p:nvSpPr>
          <p:spPr>
            <a:xfrm>
              <a:off x="8270280" y="6476760"/>
              <a:ext cx="1670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40"/>
            <p:cNvSpPr/>
            <p:nvPr/>
          </p:nvSpPr>
          <p:spPr>
            <a:xfrm>
              <a:off x="8258760" y="6491160"/>
              <a:ext cx="19692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1"/>
            <p:cNvSpPr/>
            <p:nvPr/>
          </p:nvSpPr>
          <p:spPr>
            <a:xfrm>
              <a:off x="8275680" y="6501240"/>
              <a:ext cx="163440" cy="1800"/>
            </a:xfrm>
            <a:prstGeom prst="line">
              <a:avLst/>
            </a:prstGeom>
            <a:ln w="1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42"/>
            <p:cNvSpPr/>
            <p:nvPr/>
          </p:nvSpPr>
          <p:spPr>
            <a:xfrm>
              <a:off x="7948800" y="6527520"/>
              <a:ext cx="1060920" cy="166680"/>
            </a:xfrm>
            <a:prstGeom prst="pie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6205320" y="6056280"/>
            <a:ext cx="942120" cy="42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05320" y="6056280"/>
                      <a:ext cx="94212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6954480" y="6025680"/>
            <a:ext cx="99756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54480" y="6025680"/>
                      <a:ext cx="99756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7266600" y="6318360"/>
            <a:ext cx="696960" cy="369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66600" y="6318360"/>
                      <a:ext cx="69696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4826520" y="6361200"/>
            <a:ext cx="972000" cy="32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26520" y="6361200"/>
                      <a:ext cx="9720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789520" y="6106680"/>
            <a:ext cx="982440" cy="58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89520" y="6106680"/>
                      <a:ext cx="982440" cy="58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488280" y="6316560"/>
            <a:ext cx="884520" cy="371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488280" y="6316560"/>
                      <a:ext cx="884520" cy="3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7950600" y="6320160"/>
            <a:ext cx="1059120" cy="367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950600" y="6320160"/>
                      <a:ext cx="105912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4" name="Picture 33" descr=""/>
            <p:cNvPicPr/>
            <p:nvPr/>
          </p:nvPicPr>
          <p:blipFill>
            <a:blip r:embed="rId19"/>
            <a:stretch/>
          </p:blipFill>
          <p:spPr>
            <a:xfrm flipH="1">
              <a:off x="4784040" y="4426560"/>
              <a:ext cx="2051280" cy="8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Group 34"/>
            <p:cNvGrpSpPr/>
            <p:nvPr/>
          </p:nvGrpSpPr>
          <p:grpSpPr>
            <a:xfrm>
              <a:off x="5677920" y="5131800"/>
              <a:ext cx="441720" cy="1369080"/>
              <a:chOff x="5677920" y="5131800"/>
              <a:chExt cx="441720" cy="1369080"/>
            </a:xfrm>
          </p:grpSpPr>
          <p:sp>
            <p:nvSpPr>
              <p:cNvPr id="156" name="Freeform 35"/>
              <p:cNvSpPr/>
              <p:nvPr/>
            </p:nvSpPr>
            <p:spPr>
              <a:xfrm>
                <a:off x="5677920" y="5131800"/>
                <a:ext cx="438480" cy="1296000"/>
              </a:xfrm>
              <a:prstGeom prst="pie">
                <a:avLst/>
              </a:prstGeom>
              <a:solidFill>
                <a:srgbClr val="ffff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36"/>
              <p:cNvSpPr/>
              <p:nvPr/>
            </p:nvSpPr>
            <p:spPr>
              <a:xfrm>
                <a:off x="5684760" y="6355080"/>
                <a:ext cx="434880" cy="14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39"/>
            <p:cNvGrpSpPr/>
            <p:nvPr/>
          </p:nvGrpSpPr>
          <p:grpSpPr>
            <a:xfrm>
              <a:off x="8247600" y="4521960"/>
              <a:ext cx="648360" cy="495360"/>
              <a:chOff x="8247600" y="4521960"/>
              <a:chExt cx="648360" cy="495360"/>
            </a:xfrm>
          </p:grpSpPr>
          <p:sp>
            <p:nvSpPr>
              <p:cNvPr id="159" name="Freeform 40"/>
              <p:cNvSpPr/>
              <p:nvPr/>
            </p:nvSpPr>
            <p:spPr>
              <a:xfrm flipH="1">
                <a:off x="8503200" y="4687920"/>
                <a:ext cx="209520" cy="221760"/>
              </a:xfrm>
              <a:prstGeom prst="pie">
                <a:avLst/>
              </a:pr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41"/>
              <p:cNvSpPr/>
              <p:nvPr/>
            </p:nvSpPr>
            <p:spPr>
              <a:xfrm flipH="1">
                <a:off x="8620560" y="4813920"/>
                <a:ext cx="93600" cy="11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42"/>
              <p:cNvSpPr/>
              <p:nvPr/>
            </p:nvSpPr>
            <p:spPr>
              <a:xfrm flipH="1">
                <a:off x="8491680" y="4703760"/>
                <a:ext cx="139680" cy="16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43"/>
              <p:cNvSpPr/>
              <p:nvPr/>
            </p:nvSpPr>
            <p:spPr>
              <a:xfrm flipH="1">
                <a:off x="8524800" y="4660560"/>
                <a:ext cx="457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44"/>
              <p:cNvSpPr/>
              <p:nvPr/>
            </p:nvSpPr>
            <p:spPr>
              <a:xfrm flipH="1">
                <a:off x="8537400" y="4721040"/>
                <a:ext cx="3132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45"/>
              <p:cNvSpPr/>
              <p:nvPr/>
            </p:nvSpPr>
            <p:spPr>
              <a:xfrm flipH="1">
                <a:off x="8559360" y="4763520"/>
                <a:ext cx="255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8579880" y="4797720"/>
                <a:ext cx="3312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8642880" y="4824000"/>
                <a:ext cx="1224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48"/>
              <p:cNvSpPr/>
              <p:nvPr/>
            </p:nvSpPr>
            <p:spPr>
              <a:xfrm flipH="1">
                <a:off x="8686440" y="4840200"/>
                <a:ext cx="828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49"/>
              <p:cNvSpPr/>
              <p:nvPr/>
            </p:nvSpPr>
            <p:spPr>
              <a:xfrm flipH="1">
                <a:off x="8772840" y="4811400"/>
                <a:ext cx="1116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50"/>
              <p:cNvSpPr/>
              <p:nvPr/>
            </p:nvSpPr>
            <p:spPr>
              <a:xfrm flipH="1">
                <a:off x="8730720" y="4833360"/>
                <a:ext cx="14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51"/>
              <p:cNvSpPr/>
              <p:nvPr/>
            </p:nvSpPr>
            <p:spPr>
              <a:xfrm flipH="1">
                <a:off x="8694720" y="4769280"/>
                <a:ext cx="8784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52"/>
              <p:cNvSpPr/>
              <p:nvPr/>
            </p:nvSpPr>
            <p:spPr>
              <a:xfrm flipH="1">
                <a:off x="8620560" y="4782960"/>
                <a:ext cx="71640" cy="3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53"/>
              <p:cNvSpPr/>
              <p:nvPr/>
            </p:nvSpPr>
            <p:spPr>
              <a:xfrm flipH="1">
                <a:off x="8331840" y="4538880"/>
                <a:ext cx="552600" cy="46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54"/>
              <p:cNvSpPr/>
              <p:nvPr/>
            </p:nvSpPr>
            <p:spPr>
              <a:xfrm flipH="1">
                <a:off x="8257320" y="4718880"/>
                <a:ext cx="335520" cy="288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55"/>
              <p:cNvSpPr/>
              <p:nvPr/>
            </p:nvSpPr>
            <p:spPr>
              <a:xfrm flipH="1">
                <a:off x="8283600" y="4870800"/>
                <a:ext cx="277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56"/>
              <p:cNvSpPr/>
              <p:nvPr/>
            </p:nvSpPr>
            <p:spPr>
              <a:xfrm flipH="1">
                <a:off x="8278920" y="4916880"/>
                <a:ext cx="507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57"/>
              <p:cNvSpPr/>
              <p:nvPr/>
            </p:nvSpPr>
            <p:spPr>
              <a:xfrm flipH="1">
                <a:off x="8442000" y="4563000"/>
                <a:ext cx="5904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8"/>
              <p:cNvSpPr/>
              <p:nvPr/>
            </p:nvSpPr>
            <p:spPr>
              <a:xfrm flipH="1">
                <a:off x="8826480" y="4852800"/>
                <a:ext cx="3816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59"/>
              <p:cNvSpPr/>
              <p:nvPr/>
            </p:nvSpPr>
            <p:spPr>
              <a:xfrm flipH="1">
                <a:off x="8842680" y="4914720"/>
                <a:ext cx="1800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60"/>
              <p:cNvSpPr/>
              <p:nvPr/>
            </p:nvSpPr>
            <p:spPr>
              <a:xfrm flipH="1">
                <a:off x="8705160" y="4888080"/>
                <a:ext cx="29520" cy="4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61"/>
              <p:cNvSpPr/>
              <p:nvPr/>
            </p:nvSpPr>
            <p:spPr>
              <a:xfrm flipH="1">
                <a:off x="8529120" y="4815720"/>
                <a:ext cx="52560" cy="4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62"/>
              <p:cNvSpPr/>
              <p:nvPr/>
            </p:nvSpPr>
            <p:spPr>
              <a:xfrm flipH="1">
                <a:off x="8267400" y="4521960"/>
                <a:ext cx="409320" cy="30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63"/>
              <p:cNvSpPr/>
              <p:nvPr/>
            </p:nvSpPr>
            <p:spPr>
              <a:xfrm flipH="1">
                <a:off x="8670600" y="4696920"/>
                <a:ext cx="11664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64"/>
              <p:cNvSpPr/>
              <p:nvPr/>
            </p:nvSpPr>
            <p:spPr>
              <a:xfrm flipH="1">
                <a:off x="8411040" y="4861800"/>
                <a:ext cx="19188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65"/>
              <p:cNvSpPr/>
              <p:nvPr/>
            </p:nvSpPr>
            <p:spPr>
              <a:xfrm flipH="1">
                <a:off x="8247240" y="4830840"/>
                <a:ext cx="1738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66"/>
              <p:cNvSpPr/>
              <p:nvPr/>
            </p:nvSpPr>
            <p:spPr>
              <a:xfrm flipH="1">
                <a:off x="8602920" y="4809240"/>
                <a:ext cx="292680" cy="20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Text Box 67"/>
          <p:cNvSpPr/>
          <p:nvPr/>
        </p:nvSpPr>
        <p:spPr>
          <a:xfrm>
            <a:off x="6956280" y="4462560"/>
            <a:ext cx="1995480" cy="10504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AA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erosol LIDAR Aircra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298440" y="5321160"/>
            <a:ext cx="3967200" cy="131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e with Others on fielding Ground-based Remote and In Situ Instrumentation, and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Ozone Son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165240" y="4406760"/>
            <a:ext cx="34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erosol Properties and Radiative eff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8760" y="308304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 Narrow"/>
              </a:rPr>
              <a:t>Chemical Transformation and Climate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52280" y="2635200"/>
            <a:ext cx="37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 Narrow"/>
              </a:rPr>
              <a:t>Emissions - top down te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62000" y="393696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 Narrow"/>
              </a:rPr>
              <a:t>Transport and Meteor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151560" y="201780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7ea"/>
                </a:solidFill>
                <a:uFillTx/>
                <a:latin typeface="Arial Narrow"/>
              </a:rPr>
              <a:t>Science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183320" y="59292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ea"/>
                </a:solidFill>
                <a:latin typeface="Arial Narrow"/>
                <a:ea typeface="Arial Narrow"/>
              </a:rPr>
              <a:t>Some illustr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2" descr="CalNexus_06_Oct_08.png"/>
          <p:cNvPicPr/>
          <p:nvPr/>
        </p:nvPicPr>
        <p:blipFill>
          <a:blip r:embed="rId1"/>
          <a:srcRect l="9805" t="2841" r="4903" b="7576"/>
          <a:stretch/>
        </p:blipFill>
        <p:spPr>
          <a:xfrm>
            <a:off x="4290840" y="57240"/>
            <a:ext cx="4749840" cy="64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Text Box 23"/>
          <p:cNvSpPr/>
          <p:nvPr/>
        </p:nvSpPr>
        <p:spPr>
          <a:xfrm>
            <a:off x="4448880" y="645480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ttp://esrl.noaa.gov/csd/calnex/scienceplan.pd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565200"/>
            <a:ext cx="4300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alNex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AA perspec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68120" y="52592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Forecast Model Eval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031760" y="2301840"/>
            <a:ext cx="73152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op-down tests of emission inventorie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erosol and ozone precursor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eenhouse gase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lack carbon, of particular interes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3" descr="Layout0.png"/>
          <p:cNvPicPr/>
          <p:nvPr/>
        </p:nvPicPr>
        <p:blipFill>
          <a:blip r:embed="rId1"/>
          <a:srcRect l="3664" t="1498" r="4885" b="4495"/>
          <a:stretch/>
        </p:blipFill>
        <p:spPr>
          <a:xfrm>
            <a:off x="90360" y="2208240"/>
            <a:ext cx="4606920" cy="3859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90440" y="1204920"/>
            <a:ext cx="41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Times New Roman"/>
              </a:rPr>
              <a:t>California has great interest in Climate Change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4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212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214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Rectangle 19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7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8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3144960" y="2367000"/>
            <a:ext cx="129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 May 200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4" descr=""/>
          <p:cNvPicPr/>
          <p:nvPr/>
        </p:nvPicPr>
        <p:blipFill>
          <a:blip r:embed="rId1"/>
          <a:srcRect l="14160" t="1814" r="7417" b="10883"/>
          <a:stretch/>
        </p:blipFill>
        <p:spPr>
          <a:xfrm>
            <a:off x="4994280" y="103500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5"/>
          <p:cNvSpPr/>
          <p:nvPr/>
        </p:nvSpPr>
        <p:spPr>
          <a:xfrm>
            <a:off x="5027760" y="3886200"/>
            <a:ext cx="118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mis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n, 200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8225280" y="378288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5124960" y="2181240"/>
            <a:ext cx="58608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715360" y="2463840"/>
            <a:ext cx="94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5510520" y="1371600"/>
            <a:ext cx="53892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8"/>
          <p:cNvSpPr/>
          <p:nvPr/>
        </p:nvSpPr>
        <p:spPr>
          <a:xfrm>
            <a:off x="7436880" y="101448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GW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4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6235560" y="1228680"/>
            <a:ext cx="3193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111000" y="1039680"/>
            <a:ext cx="549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6710400" y="1106640"/>
            <a:ext cx="5731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2"/>
          <p:cNvSpPr/>
          <p:nvPr/>
        </p:nvSpPr>
        <p:spPr>
          <a:xfrm flipH="1">
            <a:off x="7054920" y="129384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3"/>
          <p:cNvSpPr/>
          <p:nvPr/>
        </p:nvSpPr>
        <p:spPr>
          <a:xfrm flipH="1">
            <a:off x="6945120" y="1298520"/>
            <a:ext cx="10620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NOAA"/>
          <p:cNvPicPr/>
          <p:nvPr/>
        </p:nvPicPr>
        <p:blipFill>
          <a:blip r:embed="rId3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00160" y="154620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measurements tell u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9" descr=""/>
          <p:cNvPicPr/>
          <p:nvPr/>
        </p:nvPicPr>
        <p:blipFill>
          <a:blip r:embed="rId4"/>
          <a:srcRect l="0" t="70637" r="58891" b="0"/>
          <a:stretch/>
        </p:blipFill>
        <p:spPr>
          <a:xfrm>
            <a:off x="128520" y="1452600"/>
            <a:ext cx="4132440" cy="3432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50760" y="1052640"/>
            <a:ext cx="48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n-C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Greenhouse Gas Emis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352600" y="2824200"/>
            <a:ext cx="3251160" cy="94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F-134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= 5E-6 (mole/mole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HCF-134a) = 1300*102/4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P(HCF-134a)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F-134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= 0.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0"/>
          <p:cNvSpPr/>
          <p:nvPr/>
        </p:nvSpPr>
        <p:spPr>
          <a:xfrm>
            <a:off x="138240" y="65530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ysis by M. Train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44"/>
          <p:cNvSpPr/>
          <p:nvPr/>
        </p:nvSpPr>
        <p:spPr>
          <a:xfrm>
            <a:off x="7296120" y="1003320"/>
            <a:ext cx="1459080" cy="67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0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missions Quantific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1158840" y="501480"/>
            <a:ext cx="73616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mproved inventories are essentia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138240" y="4626000"/>
            <a:ext cx="1358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 May 2002 WP-3D fligh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Angel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2"/>
          <p:cNvGrpSpPr/>
          <p:nvPr/>
        </p:nvGrpSpPr>
        <p:grpSpPr>
          <a:xfrm>
            <a:off x="4686480" y="4959360"/>
            <a:ext cx="4423680" cy="1741680"/>
            <a:chOff x="4686480" y="4959360"/>
            <a:chExt cx="4423680" cy="1741680"/>
          </a:xfrm>
        </p:grpSpPr>
        <p:sp>
          <p:nvSpPr>
            <p:cNvPr id="254" name="Rectangle 13"/>
            <p:cNvSpPr/>
            <p:nvPr/>
          </p:nvSpPr>
          <p:spPr>
            <a:xfrm>
              <a:off x="4686480" y="4959360"/>
              <a:ext cx="44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warming potential of greenhouse gases.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Group 14"/>
            <p:cNvGrpSpPr/>
            <p:nvPr/>
          </p:nvGrpSpPr>
          <p:grpSpPr>
            <a:xfrm>
              <a:off x="4941720" y="5302440"/>
              <a:ext cx="3820320" cy="1398600"/>
              <a:chOff x="4941720" y="5302440"/>
              <a:chExt cx="3820320" cy="1398600"/>
            </a:xfrm>
          </p:grpSpPr>
          <p:sp>
            <p:nvSpPr>
              <p:cNvPr id="256" name="Line 15"/>
              <p:cNvSpPr/>
              <p:nvPr/>
            </p:nvSpPr>
            <p:spPr>
              <a:xfrm>
                <a:off x="4962240" y="53024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6"/>
              <p:cNvSpPr/>
              <p:nvPr/>
            </p:nvSpPr>
            <p:spPr>
              <a:xfrm>
                <a:off x="5124240" y="5313240"/>
                <a:ext cx="3467880" cy="13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a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W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4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2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FC-134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10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17"/>
              <p:cNvSpPr/>
              <p:nvPr/>
            </p:nvSpPr>
            <p:spPr>
              <a:xfrm>
                <a:off x="4957200" y="567504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18"/>
              <p:cNvSpPr/>
              <p:nvPr/>
            </p:nvSpPr>
            <p:spPr>
              <a:xfrm>
                <a:off x="4941720" y="6638760"/>
                <a:ext cx="3799800" cy="6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Rectangle 11"/>
          <p:cNvSpPr/>
          <p:nvPr/>
        </p:nvSpPr>
        <p:spPr>
          <a:xfrm>
            <a:off x="5255640" y="437040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greenhouse gas emi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122400" y="4572000"/>
            <a:ext cx="4572000" cy="2270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ovide more extensive data s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vestigate spatial vari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gricultural contrib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dd N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O to measurement cap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llaborate with others doing similar analyses with different perspectiv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6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mical Trans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1158480" y="501480"/>
            <a:ext cx="7700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understand on a process leve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14400" y="1969920"/>
            <a:ext cx="731520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vestiga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ondary organic aerosol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N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otochemistry; ozone 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</a:t>
            </a:r>
            <a:r>
              <a:rPr b="1" lang="en-US" sz="2800" spc="-1" strike="noStrike">
                <a:solidFill>
                  <a:srgbClr val="0000ff"/>
                </a:solidFill>
                <a:latin typeface="Arial (Headings)"/>
                <a:ea typeface="Arial (Headings)"/>
              </a:rPr>
              <a:t>le of nighttime chemist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 (Headings)"/>
              </a:rPr>
              <a:t>Halogen activ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fff"/>
            </a:gs>
            <a:gs pos="50000">
              <a:srgbClr val="ffffe1"/>
            </a:gs>
            <a:gs pos="100000">
              <a:srgbClr val="e4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5"/>
          <p:cNvSpPr/>
          <p:nvPr/>
        </p:nvSpPr>
        <p:spPr>
          <a:xfrm>
            <a:off x="0" y="911160"/>
            <a:ext cx="9144000" cy="5946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2" descr=""/>
          <p:cNvPicPr/>
          <p:nvPr/>
        </p:nvPicPr>
        <p:blipFill>
          <a:blip r:embed="rId1"/>
          <a:srcRect l="0" t="14561" r="0" b="52002"/>
          <a:stretch/>
        </p:blipFill>
        <p:spPr>
          <a:xfrm>
            <a:off x="0" y="0"/>
            <a:ext cx="9144000" cy="1012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4" descr="NOAA"/>
          <p:cNvPicPr/>
          <p:nvPr/>
        </p:nvPicPr>
        <p:blipFill>
          <a:blip r:embed="rId2"/>
          <a:stretch/>
        </p:blipFill>
        <p:spPr>
          <a:xfrm>
            <a:off x="276120" y="38160"/>
            <a:ext cx="824040" cy="823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6"/>
          <p:cNvSpPr/>
          <p:nvPr/>
        </p:nvSpPr>
        <p:spPr>
          <a:xfrm>
            <a:off x="1322280" y="0"/>
            <a:ext cx="6499440" cy="520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emical Transform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1158480" y="501480"/>
            <a:ext cx="770004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im to understand on a process level for predictive capab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152080" y="981000"/>
            <a:ext cx="48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ources of Organic Aerosol in Polluted Ai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13"/>
          <p:cNvGrpSpPr/>
          <p:nvPr/>
        </p:nvGrpSpPr>
        <p:grpSpPr>
          <a:xfrm>
            <a:off x="87480" y="1317600"/>
            <a:ext cx="6008040" cy="2711160"/>
            <a:chOff x="87480" y="1317600"/>
            <a:chExt cx="6008040" cy="2711160"/>
          </a:xfrm>
        </p:grpSpPr>
        <p:sp>
          <p:nvSpPr>
            <p:cNvPr id="274" name="AutoShape 3"/>
            <p:cNvSpPr/>
            <p:nvPr/>
          </p:nvSpPr>
          <p:spPr>
            <a:xfrm>
              <a:off x="2774880" y="2684160"/>
              <a:ext cx="632880" cy="370080"/>
            </a:xfrm>
            <a:prstGeom prst="rightArrow">
              <a:avLst>
                <a:gd name="adj1" fmla="val 50000"/>
                <a:gd name="adj2" fmla="val 427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"/>
            <p:cNvSpPr/>
            <p:nvPr/>
          </p:nvSpPr>
          <p:spPr>
            <a:xfrm>
              <a:off x="344520" y="131760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t time of emissio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5"/>
            <p:cNvSpPr/>
            <p:nvPr/>
          </p:nvSpPr>
          <p:spPr>
            <a:xfrm>
              <a:off x="4063320" y="1317600"/>
              <a:ext cx="137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fter 2 day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7" descr="Pie1"/>
            <p:cNvPicPr/>
            <p:nvPr/>
          </p:nvPicPr>
          <p:blipFill>
            <a:blip r:embed="rId3"/>
            <a:srcRect l="8331" t="6669" r="8331" b="20000"/>
            <a:stretch/>
          </p:blipFill>
          <p:spPr>
            <a:xfrm>
              <a:off x="87480" y="1709640"/>
              <a:ext cx="2634840" cy="23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Pie2"/>
            <p:cNvPicPr/>
            <p:nvPr/>
          </p:nvPicPr>
          <p:blipFill>
            <a:blip r:embed="rId4"/>
            <a:srcRect l="8331" t="6669" r="8331" b="20000"/>
            <a:stretch/>
          </p:blipFill>
          <p:spPr>
            <a:xfrm>
              <a:off x="3460680" y="1709640"/>
              <a:ext cx="2634840" cy="23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Text Box 14"/>
          <p:cNvSpPr/>
          <p:nvPr/>
        </p:nvSpPr>
        <p:spPr>
          <a:xfrm>
            <a:off x="6172200" y="169056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 2 day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sition chang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ie shrinks: species not measured? Deposition? [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e Gouw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JGR 2005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A formation &gt;&gt; calculated from known precurso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7"/>
          <p:cNvGrpSpPr/>
          <p:nvPr/>
        </p:nvGrpSpPr>
        <p:grpSpPr>
          <a:xfrm>
            <a:off x="101520" y="4110120"/>
            <a:ext cx="8923320" cy="2665440"/>
            <a:chOff x="101520" y="4110120"/>
            <a:chExt cx="8923320" cy="2665440"/>
          </a:xfrm>
        </p:grpSpPr>
        <p:pic>
          <p:nvPicPr>
            <p:cNvPr id="281" name="Picture 11" descr="VolkamerFig2"/>
            <p:cNvPicPr/>
            <p:nvPr/>
          </p:nvPicPr>
          <p:blipFill>
            <a:blip r:embed="rId5"/>
            <a:stretch/>
          </p:blipFill>
          <p:spPr>
            <a:xfrm>
              <a:off x="3540240" y="4110120"/>
              <a:ext cx="54846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2"/>
            <p:cNvSpPr/>
            <p:nvPr/>
          </p:nvSpPr>
          <p:spPr>
            <a:xfrm>
              <a:off x="101520" y="4241880"/>
              <a:ext cx="3353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OA growth &gt;&gt; expected: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emi-volatile precursors? [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Robinson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 Science 2007]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echanisms poorly understood?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iogenic precursors in urban plumes?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872280" y="6324480"/>
              <a:ext cx="23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Volkamer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, GRL 2006]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Rectangle 16"/>
          <p:cNvSpPr/>
          <p:nvPr/>
        </p:nvSpPr>
        <p:spPr>
          <a:xfrm>
            <a:off x="130320" y="4483080"/>
            <a:ext cx="3909960" cy="22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010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vestigate early stages of SOA formation at central LA si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ordinate with all platforms to build as complete a picture as possible (DOE CARES study in Sacramento plu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3:36:07Z</dcterms:created>
  <dc:creator/>
  <dc:description/>
  <dc:language>en-US</dc:language>
  <cp:lastModifiedBy>David Parrish</cp:lastModifiedBy>
  <cp:lastPrinted>2008-09-12T18:03:28Z</cp:lastPrinted>
  <dcterms:modified xsi:type="dcterms:W3CDTF">2009-04-06T14:56:25Z</dcterms:modified>
  <cp:revision>175</cp:revision>
  <dc:subject/>
  <dc:title>PowerPoint Presentation</dc:title>
</cp:coreProperties>
</file>